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AAB2E-20F6-424B-979C-5EC3E0D60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ADE30-F02F-474E-B4B7-F5C1EB7D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FE782-7F7B-4D2F-AB69-5922F239E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CD935-089B-491A-B443-266C3F087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0FDE8-E6B5-45CB-B20E-A47B8F02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9AC1-2F60-41CD-A9CD-F3E7F9096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EF391-228B-4AEA-9F96-6B107413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9E69-C036-45CF-BD15-A06174065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21D4-1EF9-4562-A54A-4FA3C3FF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9AD1-2CF2-4C50-8F46-FFB705CB2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964A-2A6F-4808-B17B-91F636B3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CADA-211D-4EAF-B193-AC7EB63D0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DBE3-3F7E-4449-9992-CD2B6D804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crmvet.org/crmpics/vote.jpg&amp;imgrefurl=http://www.crmvet.org/vra/vrahome.htm&amp;usg=__oJwstMcweY58FNpuxiamMKDQbR4=&amp;h=1109&amp;w=1500&amp;sz=247&amp;hl=en&amp;start=10&amp;um=1&amp;itbs=1&amp;tbnid=ZkbxIi6u0Spp4M:&amp;tbnh=111&amp;tbnw=150&amp;prev=/images%3Fq%3Dvoting%26um%3D1%26hl%3Den%26safe%3Dactive%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haelyn Serhus and Charity Hamilton</a:t>
            </a:r>
            <a:endParaRPr b="0" lang="en-US" sz="4000" spc="-1" strike="noStrike">
              <a:solidFill>
                <a:srgbClr val="000000"/>
              </a:solidFill>
              <a:latin typeface="Arial"/>
            </a:endParaRPr>
          </a:p>
        </p:txBody>
      </p:sp>
      <p:sp>
        <p:nvSpPr>
          <p:cNvPr id="42" name=""/>
          <p:cNvSpPr txBox="1"/>
          <p:nvPr/>
        </p:nvSpPr>
        <p:spPr>
          <a:xfrm>
            <a:off x="533520" y="1143000"/>
            <a:ext cx="7619760" cy="231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The Amendments</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p:transition spd="slow">
    <p:comb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ivil War Amendments</a:t>
            </a:r>
            <a:endParaRPr b="0" lang="en-US" sz="4800" spc="-1" strike="noStrike">
              <a:solidFill>
                <a:srgbClr val="000000"/>
              </a:solidFill>
              <a:latin typeface="Arial"/>
            </a:endParaRPr>
          </a:p>
        </p:txBody>
      </p:sp>
      <p:sp>
        <p:nvSpPr>
          <p:cNvPr id="44" name=""/>
          <p:cNvSpPr txBox="1"/>
          <p:nvPr/>
        </p:nvSpPr>
        <p:spPr>
          <a:xfrm>
            <a:off x="1447920" y="1523880"/>
            <a:ext cx="167616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rPr>
              <a:t>13th</a:t>
            </a:r>
            <a:endPar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791320" y="1828800"/>
            <a:ext cx="1685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4th</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3657600" y="3962520"/>
            <a:ext cx="1847880" cy="2004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rPr>
              <a:t>15th</a:t>
            </a:r>
            <a:endPar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at the Amendments Protect</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Abolished Slavery.</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Gave citizenship to all people born in America, regardless of race.</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Gave every male citizen in America the right to vote, regardless of race.</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4572000" y="2133720"/>
            <a:ext cx="4343400" cy="32130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en the Amendments were Passed</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January 18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June 186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February 1869</a:t>
            </a:r>
            <a:endParaRPr b="0" lang="en-US" sz="2800" spc="-1" strike="noStrike">
              <a:solidFill>
                <a:srgbClr val="000000"/>
              </a:solidFill>
              <a:latin typeface="Arial"/>
            </a:endParaRPr>
          </a:p>
        </p:txBody>
      </p:sp>
      <p:pic>
        <p:nvPicPr>
          <p:cNvPr id="52" name="" descr=""/>
          <p:cNvPicPr/>
          <p:nvPr/>
        </p:nvPicPr>
        <p:blipFill>
          <a:blip r:embed="rId1"/>
          <a:stretch/>
        </p:blipFill>
        <p:spPr>
          <a:xfrm>
            <a:off x="4797360" y="1905120"/>
            <a:ext cx="3691080" cy="39621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Men have more rights than women?</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14</a:t>
            </a:r>
            <a:r>
              <a:rPr b="0" lang="en-US" sz="2800" spc="-1" strike="noStrike" baseline="30000">
                <a:solidFill>
                  <a:srgbClr val="ffffff"/>
                </a:solidFill>
                <a:latin typeface="Arial"/>
              </a:rPr>
              <a:t>th</a:t>
            </a:r>
            <a:r>
              <a:rPr b="0" lang="en-US" sz="2800" spc="-1" strike="noStrike">
                <a:solidFill>
                  <a:srgbClr val="ffffff"/>
                </a:solidFill>
                <a:latin typeface="Arial"/>
              </a:rPr>
              <a:t> and 15</a:t>
            </a:r>
            <a:r>
              <a:rPr b="0" lang="en-US" sz="2800" spc="-1" strike="noStrike" baseline="30000">
                <a:solidFill>
                  <a:srgbClr val="ffffff"/>
                </a:solidFill>
                <a:latin typeface="Arial"/>
              </a:rPr>
              <a:t>th</a:t>
            </a:r>
            <a:r>
              <a:rPr b="0" lang="en-US" sz="2800" spc="-1" strike="noStrike">
                <a:solidFill>
                  <a:srgbClr val="ffffff"/>
                </a:solidFill>
                <a:latin typeface="Arial"/>
              </a:rPr>
              <a:t> amendments, the men in America had more rights than the women. This is true because in the 14</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if any state denies a man of his rights, they will lose part of their representation in Congress. Also, in the 15</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only the men have the right to vote. So over all, the government wasn’t giving the women protection of their rights as much as they were for the m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4:04Z</dcterms:created>
  <dc:creator>cfisd</dc:creator>
  <dc:description/>
  <dc:language>en-US</dc:language>
  <cp:lastModifiedBy>cfisd</cp:lastModifiedBy>
  <dcterms:modified xsi:type="dcterms:W3CDTF">2010-05-06T18:34:21Z</dcterms:modified>
  <cp:revision>7</cp:revision>
  <dc:subject/>
  <dc:title>The Amendments</dc:title>
</cp:coreProperties>
</file>