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01063-7CF4-4C4F-BC01-E7091A40A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38B87-D552-4B8A-B73A-AE46475D1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A276C-026B-4A05-9A96-6FFA1EAAA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53F9D-130D-4B9F-A0AA-99C4C1096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87398-2667-4CE0-A036-A6B76245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B0B15-5583-48E4-8F30-C733CE88D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F373F-BFFC-46DA-8523-ED9704310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EB40C-7531-4FCF-AC9C-2AFFAD7EE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1FC5-C5D8-4C09-81A2-8382F7774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00CD-791F-4B26-99C5-A157EC59F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841E-03A3-44D0-A940-0CB6EA6AC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5BCAC-34E3-4268-AED0-61DE3E918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53AB-6C2F-4202-B68A-9BCE15049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crmvet.org/crmpics/vote.jpg&amp;imgrefurl=http://www.crmvet.org/vra/vrahome.htm&amp;usg=__oJwstMcweY58FNpuxiamMKDQbR4=&amp;h=1109&amp;w=1500&amp;sz=247&amp;hl=en&amp;start=10&amp;um=1&amp;itbs=1&amp;tbnid=ZkbxIi6u0Spp4M:&amp;tbnh=111&amp;tbnw=150&amp;prev=/images%3Fq%3Dvoting%26um%3D1%26hl%3Den%26safe%3Dactive%26tbs%3Disch: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y: Shaelyn Serhus and Charity Hamilton</a:t>
            </a:r>
            <a:endParaRPr b="0" lang="en-US" sz="4000" spc="-1" strike="noStrike">
              <a:solidFill>
                <a:srgbClr val="000000"/>
              </a:solidFill>
              <a:latin typeface="Arial"/>
            </a:endParaRPr>
          </a:p>
        </p:txBody>
      </p:sp>
      <p:sp>
        <p:nvSpPr>
          <p:cNvPr id="42" name=""/>
          <p:cNvSpPr txBox="1"/>
          <p:nvPr/>
        </p:nvSpPr>
        <p:spPr>
          <a:xfrm>
            <a:off x="533520" y="1143000"/>
            <a:ext cx="7619760" cy="231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rPr>
              <a:t>The Amendments</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ea typeface="Impact"/>
            </a:endParaRPr>
          </a:p>
        </p:txBody>
      </p:sp>
    </p:spTree>
  </p:cSld>
  <p:transition spd="slow">
    <p:comb dir="horz"/>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ivil War Amendments</a:t>
            </a:r>
            <a:endParaRPr b="0" lang="en-US" sz="4800" spc="-1" strike="noStrike">
              <a:solidFill>
                <a:srgbClr val="000000"/>
              </a:solidFill>
              <a:latin typeface="Arial"/>
            </a:endParaRPr>
          </a:p>
        </p:txBody>
      </p:sp>
      <p:sp>
        <p:nvSpPr>
          <p:cNvPr id="44" name=""/>
          <p:cNvSpPr txBox="1"/>
          <p:nvPr/>
        </p:nvSpPr>
        <p:spPr>
          <a:xfrm>
            <a:off x="1447920" y="1523880"/>
            <a:ext cx="1676160" cy="2971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rPr>
              <a:t>13th</a:t>
            </a:r>
            <a:endPar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ea typeface="Impact"/>
            </a:endParaRPr>
          </a:p>
        </p:txBody>
      </p:sp>
      <p:sp>
        <p:nvSpPr>
          <p:cNvPr id="45" name=""/>
          <p:cNvSpPr txBox="1"/>
          <p:nvPr/>
        </p:nvSpPr>
        <p:spPr>
          <a:xfrm>
            <a:off x="5791320" y="1828800"/>
            <a:ext cx="1685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14th</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6" name=""/>
          <p:cNvSpPr txBox="1"/>
          <p:nvPr/>
        </p:nvSpPr>
        <p:spPr>
          <a:xfrm>
            <a:off x="3657600" y="3962520"/>
            <a:ext cx="1847880" cy="2004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rPr>
              <a:t>15th</a:t>
            </a:r>
            <a:endPar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ea typeface="Impact"/>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at the Amendments Protect</a:t>
            </a:r>
            <a:endParaRPr b="0" lang="en-US" sz="48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Abolished Slavery.</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Gave citizenship to all people born in America, regardless of race.</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Gave every male citizen in America the right to vote, regardless of race.</a:t>
            </a: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4572000" y="2133720"/>
            <a:ext cx="4343400" cy="3213000"/>
          </a:xfrm>
          <a:prstGeom prst="rect">
            <a:avLst/>
          </a:prstGeom>
          <a:ln w="0">
            <a:noFill/>
          </a:ln>
        </p:spPr>
      </p:pic>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en the Amendments were Passed</a:t>
            </a:r>
            <a:endParaRPr b="0" lang="en-US" sz="4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January 18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June 1866</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February 1869</a:t>
            </a:r>
            <a:endParaRPr b="0" lang="en-US" sz="2800" spc="-1" strike="noStrike">
              <a:solidFill>
                <a:srgbClr val="000000"/>
              </a:solidFill>
              <a:latin typeface="Arial"/>
            </a:endParaRPr>
          </a:p>
        </p:txBody>
      </p:sp>
      <p:pic>
        <p:nvPicPr>
          <p:cNvPr id="52" name="" descr=""/>
          <p:cNvPicPr/>
          <p:nvPr/>
        </p:nvPicPr>
        <p:blipFill>
          <a:blip r:embed="rId1"/>
          <a:stretch/>
        </p:blipFill>
        <p:spPr>
          <a:xfrm>
            <a:off x="4797360" y="1905120"/>
            <a:ext cx="3691080" cy="3962160"/>
          </a:xfrm>
          <a:prstGeom prst="rect">
            <a:avLst/>
          </a:prstGeom>
          <a:ln w="0">
            <a:noFill/>
          </a:ln>
        </p:spPr>
      </p:pic>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Men have more rights than women?</a:t>
            </a:r>
            <a:endParaRPr b="0" lang="en-US" sz="4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the 14</a:t>
            </a:r>
            <a:r>
              <a:rPr b="0" lang="en-US" sz="2800" spc="-1" strike="noStrike" baseline="30000">
                <a:solidFill>
                  <a:srgbClr val="ffffff"/>
                </a:solidFill>
                <a:latin typeface="Arial"/>
              </a:rPr>
              <a:t>th</a:t>
            </a:r>
            <a:r>
              <a:rPr b="0" lang="en-US" sz="2800" spc="-1" strike="noStrike">
                <a:solidFill>
                  <a:srgbClr val="ffffff"/>
                </a:solidFill>
                <a:latin typeface="Arial"/>
              </a:rPr>
              <a:t> and 15</a:t>
            </a:r>
            <a:r>
              <a:rPr b="0" lang="en-US" sz="2800" spc="-1" strike="noStrike" baseline="30000">
                <a:solidFill>
                  <a:srgbClr val="ffffff"/>
                </a:solidFill>
                <a:latin typeface="Arial"/>
              </a:rPr>
              <a:t>th</a:t>
            </a:r>
            <a:r>
              <a:rPr b="0" lang="en-US" sz="2800" spc="-1" strike="noStrike">
                <a:solidFill>
                  <a:srgbClr val="ffffff"/>
                </a:solidFill>
                <a:latin typeface="Arial"/>
              </a:rPr>
              <a:t> amendments, the men in America had more rights than the women. This is true because in the 14</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if any state denies a man of his rights, they will lose part of their representation in Congress. Also, in the 15</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only the men have the right to vote. So over all, the government wasn’t giving the women protection of their rights as much as they were for the me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4:04Z</dcterms:created>
  <dc:creator>cfisd</dc:creator>
  <dc:description/>
  <dc:language>en-US</dc:language>
  <cp:lastModifiedBy>cfisd</cp:lastModifiedBy>
  <dcterms:modified xsi:type="dcterms:W3CDTF">2010-05-06T18:34:21Z</dcterms:modified>
  <cp:revision>7</cp:revision>
  <dc:subject/>
  <dc:title>The Amendments</dc:title>
</cp:coreProperties>
</file>