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597-CA6E-498A-8035-F0CD2AB6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515-EC45-4AD3-A0A1-FBF24E31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314-CB6B-445B-8ADC-7DA3326B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CC3-6BEA-49C8-8438-CFFB194D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40ED-6188-4C19-8E4F-108A5931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E521-97EE-4FB8-A3E6-DD1859BE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FE15-F979-43BC-8895-40B4066A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AEEA-FB44-4363-8181-AC1961A4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B9FF-58CA-4FCA-BA98-910E6EC6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4E0A-A9AC-4ECF-8F7F-6028A1E2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D9B2-1391-42B7-BB59-D060C3DD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311-F0CB-4724-A8DD-CEC9D65E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298E-5A2C-405A-AF4C-B57C722A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447A-A51E-46CF-9D11-A7A697C0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6689-A6EE-48FC-99EC-73C65651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C40E-22EE-4FB9-BECF-56DB7269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BE5A-EEB0-428D-B4F8-67EC2443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AD5-4E63-44A7-B5B2-DA8BE748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932-BB35-4522-8EE6-B2B75C76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CED-706D-4BD5-8475-01A72B2D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3C4-117B-4969-A828-797B9626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CC0-7E81-40AD-BE6A-B1656579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FA6-D858-4F37-90D9-D9D20DBE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F6F-BE4F-4FBC-B962-195150EB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A847-9C60-41B3-93A4-3A50ACF0D21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96CD-4660-4129-9B7A-6EB8D7627A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e/Rainn_Wils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he Election of 187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 Controversial 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689120" cy="19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90920" y="4843440"/>
            <a:ext cx="1942920" cy="20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flipH="1">
            <a:off x="7467120" y="533520"/>
            <a:ext cx="138924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publican Pa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553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therford B. Ha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ia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mon Whee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,034,3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.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63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emocratic par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uel J. Til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- Democr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 state-New Y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nning mate- Thomas Andrews Hendri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oral vote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s carried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pular vote- 4,288,5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age- 51.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18320" y="1828800"/>
            <a:ext cx="2652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File:Rainn Wil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lden won the popular but Hayes won the electoral collage.  Hayes was ruled the winner.  This election ended up as one of the most controversi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ompromise of 187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was the compromise mad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ettle future election disputes such as the election of 187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ithdraw soldiers from sou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mpromise successfully set the south on their own and let them start as a part as the U.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3200400"/>
            <a:ext cx="39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the compromis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24:45Z</dcterms:created>
  <dc:creator>CFISD</dc:creator>
  <dc:description/>
  <dc:language>en-US</dc:language>
  <cp:lastModifiedBy>cfisd</cp:lastModifiedBy>
  <dcterms:modified xsi:type="dcterms:W3CDTF">2010-05-07T18:26:49Z</dcterms:modified>
  <cp:revision>11</cp:revision>
  <dc:subject/>
  <dc:title>The election of 1877</dc:title>
</cp:coreProperties>
</file>