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322-D708-4E76-80CF-2A2A4748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40C-B365-41B8-9099-514F6EB5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A64-168E-48EA-A6B3-EAA3B9BE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2F0-9D7B-4A76-8954-95C47F88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9588-6729-4ED0-8FFE-2B2887F8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5D60-818B-434A-9489-B90D006F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B41E-1E8F-4467-949B-2BEB8010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B5F1-13B4-46AB-BBB7-AD2DEE6F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BA01-8795-4904-B38D-54EA8FDE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1A13-A091-430D-95C8-265085F3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90B3-5249-4914-8681-97AA1AFB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08F-EDE9-44C4-AA30-2F118865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93C3-0240-4FD9-99E0-F5164A92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D029-AE3C-480A-A150-2D3D1C76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464E-A7D3-4CA3-877A-09E02E82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1241-3289-47DB-AE75-86057985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44D1-60A8-4BB9-AB8C-4B94178F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EC8-BC0F-463E-B5F4-585C8FE2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1A0-CF38-4414-A256-541889B1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C910-6D84-49C7-A29B-2BB944F9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C28-4955-46F4-91AD-3A65B2AC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607-DFB4-420D-8CC2-F78D9727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CCB-EAD6-4890-A77F-CD4A12E7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88E8-AD1B-4F6D-9FCD-9A9E752D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64C0-084E-422E-8293-AEDA847CD18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EFD1-13BD-4C61-843A-3D1F48F302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e/Rainn_Wilso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he Election of 1877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A Controversial El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1689120" cy="1952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90920" y="4843440"/>
            <a:ext cx="1942920" cy="2014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 flipH="1">
            <a:off x="7467120" y="533520"/>
            <a:ext cx="138924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publican Pa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6553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therford B. Hay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blic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hi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ia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mon Wheel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,034,3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7.9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637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Democratic part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uel J. Til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Democra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New Y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 Thomas Andrews Hendri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 4,288,54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 51.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818320" y="1828800"/>
            <a:ext cx="2652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File:Rainn Wil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lden won the popular but Hayes won the electoral collage.  Hayes was ruled the winner.  This election ended up as one of the most controversia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Compromise of 187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y was the compromise mad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ettle future election disputes such as the election of 187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withdraw soldiers from sou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mpromise successfully set the south on their own and let them start as a part as the U.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3200400"/>
            <a:ext cx="392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was the compromise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24:45Z</dcterms:created>
  <dc:creator>CFISD</dc:creator>
  <dc:description/>
  <dc:language>en-US</dc:language>
  <cp:lastModifiedBy>cfisd</cp:lastModifiedBy>
  <dcterms:modified xsi:type="dcterms:W3CDTF">2010-05-07T18:26:49Z</dcterms:modified>
  <cp:revision>11</cp:revision>
  <dc:subject/>
  <dc:title>The election of 1877</dc:title>
</cp:coreProperties>
</file>