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BD6-B337-43A6-9CD6-591BDF82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18C-E986-4AD2-823A-01485B7A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618-7CD6-4E2C-A0BD-D6875636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CD9-6E60-4A46-B776-760A9607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0342-3DBB-42B8-909A-99D00A5B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4F12-8BFA-4C70-A71A-1A1733B4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3CC0-199C-48DE-88C2-25A9FDB8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C57C-E680-4AD5-A57D-BD17A1C0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30ED-9892-44CE-B4AE-14BD31A8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EE8A-B1C3-483A-B7AB-2E04E981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22A0-6D28-461C-9CCE-785CA6C5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866-5B71-4A36-BAA7-169F0595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E67F-30EE-4FFA-9321-2E6388FC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135B-1C99-454E-8DFB-DC8C1B90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9240-3E86-45D5-B14F-B17F422B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0173-B197-4681-878B-DF5531BD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26A6-9E41-4555-A3AD-E7994409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621-86BB-46BA-A366-BC146DA0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7A7-8CB6-47D5-9CCB-25A2064D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566-DACB-4D02-A1AB-AA95B337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36F-838D-456B-BB94-A267AD57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1BA-D641-473E-A0A6-92E58EF1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7C3-5C72-481F-AFFE-98FC4190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469-8787-4B27-BD01-682BD156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4EC8-D211-4263-B7EF-78E58203CC1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631B-8CF2-4038-9508-E0F0DB9237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e/Rainn_Wils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he Election of 187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 Controversial 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689120" cy="19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90920" y="4843440"/>
            <a:ext cx="1942920" cy="20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flipH="1">
            <a:off x="7467120" y="533520"/>
            <a:ext cx="1389240" cy="226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4080" y="21337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wthi P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publican Pa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553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therford B. Ha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mon Whee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,034,3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.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637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emocratic par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uel J. Til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Democr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New Y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 Thomas Andrews Hendri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 4,288,5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 51.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18320" y="1828800"/>
            <a:ext cx="2652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File:Rainn Wil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lden won the popular but Hayes won the electoral collage.  Hayes was ruled the winner.  This election ended up as one of the most controversi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ompromise of 187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was the compromise mad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ettle future election disputes such as the election of 187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ithdraw soldiers from sou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promise successfully set the south on their own and let them start as a part as the U.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3200400"/>
            <a:ext cx="39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the compromis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4:45Z</dcterms:created>
  <dc:creator>CFISD</dc:creator>
  <dc:description/>
  <dc:language>en-US</dc:language>
  <cp:lastModifiedBy>CFISD</cp:lastModifiedBy>
  <dcterms:modified xsi:type="dcterms:W3CDTF">2010-05-17T18:07:00Z</dcterms:modified>
  <cp:revision>12</cp:revision>
  <dc:subject/>
  <dc:title>The election of 1877</dc:title>
</cp:coreProperties>
</file>