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AB1-5887-4BE4-BEC0-4CED168C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AC3-CDC1-45E0-A781-C1D9A450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028-3659-4DFB-AB57-C0DBF03A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199-5280-4448-AAA2-6CFCFEBA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53C3-9058-44A5-AABB-6A012B2A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4931-DBAC-4C15-AB45-FD214B98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ACAF-3589-4F1B-9BEC-6BF5C548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6102-3392-4CDF-9372-7754BCE0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4DAF-69BF-41A8-8706-49D209D0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38D9-8046-4D19-A6E6-8B3B111D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1803-E2B5-48FB-8F9A-F09722C1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E9F-5228-4F70-B4B9-64E142A0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9785-302B-4CF5-A2E4-36F95A5D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5F88-1E62-47A8-BA2B-55C4837E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FB55-5967-4798-AB54-EEA4BB5F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143D-EC5E-4F0C-A4A1-54929640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B4EB-4F5A-4106-8297-A096A8BF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E6B-540A-4132-A2D2-22D37774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032-82E1-4632-B1B4-6D97990A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B6D-82FA-4F8C-95AA-EFDECD12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BDE-02CA-4908-93D5-EF13B890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BA8-8A11-4699-8351-6AA97E14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17C-C80B-4CD1-81B6-85A9FDD6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EF9-D3B2-4DD2-B0B6-BD255512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1CF2-068A-458F-BAB0-4FB5E546023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46DC-5B2F-4280-AA3E-6C058FF9F41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e/Rainn_Wilso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he Election of 1877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A Controversial El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689120" cy="195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90920" y="4843440"/>
            <a:ext cx="1942920" cy="201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flipH="1">
            <a:off x="7467120" y="533520"/>
            <a:ext cx="1389240" cy="2263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24080" y="21337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wthi P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publican Pa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6553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therford B. Ha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hi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mon Whee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,034,3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.9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637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Democratic par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uel J. Til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Democra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New Y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 Thomas Andrews Hendri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 4,288,54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 51.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18320" y="1828800"/>
            <a:ext cx="2652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File:Rainn Wil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lden won the popular but Hayes won the electoral collage.  Hayes was ruled the winner.  This election ended up as one of the most controversia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ompromise of 187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y was the compromise mad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ettle future election disputes such as the election of 187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withdraw soldiers from sou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promise successfully set the south on their own and let them start as a part as the U.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3200400"/>
            <a:ext cx="392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as the compromise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4:45Z</dcterms:created>
  <dc:creator>CFISD</dc:creator>
  <dc:description/>
  <dc:language>en-US</dc:language>
  <cp:lastModifiedBy>CFISD</cp:lastModifiedBy>
  <dcterms:modified xsi:type="dcterms:W3CDTF">2010-05-17T18:07:00Z</dcterms:modified>
  <cp:revision>12</cp:revision>
  <dc:subject/>
  <dc:title>The election of 1877</dc:title>
</cp:coreProperties>
</file>