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F073-0D22-40AF-ADE0-F14BD61F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F230-B2E5-47F6-B196-207A5310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E44A-219A-4771-A1A7-F4F625EE7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04EE-3139-422F-AD5C-DC9B3FDBF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BD8F-6DDA-480D-923E-509E930B8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64EF-F8F7-4DF6-9A9A-280E73ED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DDEF-3D55-46CF-9EC1-076A81E2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7647-248D-4C48-BE8C-21BA9807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EF1C-A8AD-4463-80D6-02B30816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509B-23F1-497A-AAA7-33EA075C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9371-B224-4594-BE7F-07C2BF3C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B692-FEF0-4EA7-82FF-1DABFF0F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8476-9007-4B7C-9920-AC216427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DAC9-2246-489D-8833-61FABFC1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7738-507D-4EA9-A55F-75176C10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589D-9E67-440D-8220-F8043E584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38F3-7509-435F-B915-A5274CE0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3D13-78A7-467C-90C6-469A1169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0651-57F3-4113-884A-449E66EB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5849-B497-461E-BEBF-8729DD32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4E00-6070-4996-A284-823BC0BA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3D0C-1176-48EE-84AF-63BB1AF9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E9FA-55B3-4A09-91A3-79B4AD11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D5C5-056C-403E-B622-D3D4349F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984C-1D70-43BF-8E45-AB67EB42F0D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5DEA-5985-4355-B099-48D75C43F93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b/be/Rainn_Wilson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The Election of 1877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A Controversial Ele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1689120" cy="1952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590920" y="4843440"/>
            <a:ext cx="1942920" cy="2014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 flipH="1">
            <a:off x="7467120" y="533520"/>
            <a:ext cx="1389240" cy="22636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124080" y="213372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wthi P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publican Pa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65530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utherford B. Hay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ty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blic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me sta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hi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unning Ma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ia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mon Wheel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ectoral vo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tes carried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pular vo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,034,31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centag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7.9%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324480" y="2362320"/>
            <a:ext cx="2637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6870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Democratic part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uel J. Tild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ty- Democrat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me state-New Y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unning mate- Thomas Andrews Hendric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ectoral vote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tes carried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pular vote- 4,288,54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centage- 51.0%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818320" y="1828800"/>
            <a:ext cx="2652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File:Rainn Wil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86104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ilden won the popular but Hayes won the electoral collage.  Hayes was ruled the winner.  This election ended up as one of the most controversial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Compromise of 187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y was the compromise mad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ettle future election disputes such as the election of 187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withdraw soldiers from sou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ompromise successfully set the south on their own and let them start as a part as the U.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4343400" y="3200400"/>
            <a:ext cx="392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was the compromise ma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8:24:45Z</dcterms:created>
  <dc:creator>CFISD</dc:creator>
  <dc:description/>
  <dc:language>en-US</dc:language>
  <cp:lastModifiedBy>CFISD</cp:lastModifiedBy>
  <dcterms:modified xsi:type="dcterms:W3CDTF">2010-05-17T18:07:00Z</dcterms:modified>
  <cp:revision>12</cp:revision>
  <dc:subject/>
  <dc:title>The election of 1877</dc:title>
</cp:coreProperties>
</file>