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DE1-3FE6-4084-AD74-E5813845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75F-5E41-4FE1-9A05-E8E4DDAB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234-50B5-4137-9B48-04EA8FCA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CC3-96CD-4489-A252-B8A37620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0D9F-04A1-470A-B6B4-D6192649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A720-5C15-4ADE-83AD-9173F20B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E665-0A53-439E-A4D6-8574A097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31D9-D129-40E5-B2E1-E6798DFA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C6FB-D39D-4868-A0ED-2EE43F07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6BB8-3097-4240-BCC2-635E32F1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0C20-E6B8-44EE-B9F1-2600DD5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3EB-68FD-4531-8020-33304942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FDEC-2AF6-4921-A6CE-60CB1157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50BF-8797-47D8-87E6-A338799D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0FFE-994A-49DD-9C6C-6A733FA6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1F47-92FD-4D7F-A598-47229099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66E7-6393-4122-B798-2FEE3501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562-A18F-4F70-B8D8-B75BD65A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6AF-4E5E-4390-9286-24DBC87D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62B-1F67-48E2-8C2B-A96493C4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D17-9335-4293-AFF8-E5FAA4CC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807-6B2D-42C5-80F4-F399EE62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E35-FB97-4EF1-841B-D06E659A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C8F-8810-4AA1-B356-0A54B3BC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48D1-50B4-4669-A84C-C712341C73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7B99-6B3B-4B46-9C10-008411699C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21337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wthi P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17T18:07:00Z</dcterms:modified>
  <cp:revision>12</cp:revision>
  <dc:subject/>
  <dc:title>The election of 1877</dc:title>
</cp:coreProperties>
</file>