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AC6-31E0-4096-8EE4-814A0501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AF8-E079-432D-8835-AA1F3C8D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7B1-DE16-499D-92CC-418F1074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120-5740-40C6-8DA0-26E75A90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EEC9-7A1E-4845-91EB-677C4FAC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88D8-2518-4A42-8FB9-C869050F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BD0B-C940-47D4-A216-3D4DF7E4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5EA5-1E81-4269-832B-BB4210F0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7EA9-B74F-4344-A260-D83A2B58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B0F9-C640-4F82-83D8-FBBEB813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E1A3-C974-4925-9A7A-FF98FF14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A525-E683-4681-A008-B0DBE136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225B-32F5-421D-9A9B-2ADF106D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A7D2-8DA3-4577-8BEA-2B022F18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35B7-8F1A-4AFB-AE98-A2DE697B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A92B-674F-4C99-BE28-84F3D963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4BEA-07B2-4CB2-9E77-0D0927EC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F4E2-AF66-4B2D-BC16-03756594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3091-38EF-4AB3-BDD6-8BC1B6CA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6342-4B40-48A7-ACE0-C0A4F530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D5A-2490-425D-A41D-280FD390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C041-2918-4C93-83EF-C4877061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ECF8-485D-40C9-9634-AFD46C73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FDB-AE11-482C-A987-B47F70A2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7FF9-9830-4356-AC12-95AD6FF9134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4AE5-2A23-49A1-9D55-9DEFE5FE5F9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b/be/Rainn_Wilso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he Election of 1877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A Controversial El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1689120" cy="1952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90920" y="4843440"/>
            <a:ext cx="1942920" cy="2014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 flipH="1">
            <a:off x="7467120" y="533520"/>
            <a:ext cx="138924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publican Pa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6553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therford B. Hay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blic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hi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ia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mon Wheel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,034,3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7.9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637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Democratic part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uel J. Til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Democra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New Y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 Thomas Andrews Hendri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 4,288,54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 51.0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818320" y="1828800"/>
            <a:ext cx="2652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File:Rainn Wil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86104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lden won the popular but Hayes won the electoral collage.  Hayes was ruled the winner.  This election ended up as one of the most controversia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Compromise of 187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y was the compromise mad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ettle future election disputes such as the election of 187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withdraw soldiers from sou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mpromise successfully set the south on their own and let them start as a part as the U.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3200400"/>
            <a:ext cx="392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was the compromise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24:45Z</dcterms:created>
  <dc:creator>CFISD</dc:creator>
  <dc:description/>
  <dc:language>en-US</dc:language>
  <cp:lastModifiedBy>cfisd</cp:lastModifiedBy>
  <dcterms:modified xsi:type="dcterms:W3CDTF">2010-05-07T18:26:49Z</dcterms:modified>
  <cp:revision>11</cp:revision>
  <dc:subject/>
  <dc:title>The election of 1877</dc:title>
</cp:coreProperties>
</file>