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68D-956C-4816-AB45-7C290B48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92D-1755-4C5B-A102-8AE6732D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E7A-6D0B-4AAC-82D4-FF6B014D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E90-702E-4795-A0DC-DC4D76EE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101E-B686-4FAB-A137-36A0AEB9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52CE-1685-4C90-B364-78011F74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3717-8657-4394-95C8-F88E4A05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9100-A501-4649-B174-83118E3F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6E24-498A-4367-A37B-28B499AE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768F-259F-4C69-AE0E-D6D73D24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ABC1-6B1A-4D1F-9246-40F5DD3F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C3A5-1FC5-4B5F-82D2-B0B89D61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4A07-E6EE-4601-90B6-24F5344F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9899-8B4B-4C68-AA74-2DC62063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3313-D91E-4614-B63F-CABD1FDA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135D-D94D-435B-A649-FE620975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9F1F-01C9-4094-9C8C-AE9F7D21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139-950C-4791-8B0A-9AC3174C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493-E893-47FF-8FD6-A37B2DB0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12FE-120A-41F6-AAE9-39065DAF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329-758C-4F77-937B-060B9B81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831-519B-46B8-8B7F-C6211506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6D9-7E8F-45FB-9A59-815B0972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A0D-1F76-4DD0-A840-7818A1DE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E192-BB16-4634-8F98-C7E2F40CFCF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0DA1-91B2-457D-A10F-F67FAEAF42C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e/Rainn_Wilso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he Election of 1877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A Controversial El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689120" cy="195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90920" y="4843440"/>
            <a:ext cx="1942920" cy="201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flipH="1">
            <a:off x="7467120" y="533520"/>
            <a:ext cx="138924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publican Pa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6553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therford B. Ha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hi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mon Whee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,034,3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.9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637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Democratic par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uel J. Til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Democra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New Y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 Thomas Andrews Hendri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 4,288,54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 51.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818320" y="1828800"/>
            <a:ext cx="2652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File:Rainn Wil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lden won the popular but Hayes won the electoral collage.  Hayes was ruled the winner.  This election ended up as one of the most controversia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ompromise of 187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y was the compromise mad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ettle future election disputes such as the election of 187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withdraw soldiers from sou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promise successfully set the south on their own and let them start as a part as the U.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3200400"/>
            <a:ext cx="392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as the compromise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4:45Z</dcterms:created>
  <dc:creator>CFISD</dc:creator>
  <dc:description/>
  <dc:language>en-US</dc:language>
  <cp:lastModifiedBy>cfisd</cp:lastModifiedBy>
  <dcterms:modified xsi:type="dcterms:W3CDTF">2010-05-07T18:26:49Z</dcterms:modified>
  <cp:revision>11</cp:revision>
  <dc:subject/>
  <dc:title>The election of 1877</dc:title>
</cp:coreProperties>
</file>