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8CBB-7AFF-44E1-8DF0-DEC2A723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B159-42A6-42BF-B4A5-EC035069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A991-34F7-4C29-BA2E-2E9C03F0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9A8F-C1E3-47E9-914E-3732ECB15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7DF1-8EC3-4E15-8631-57D018038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4266-30D1-41BC-B458-2F2EE3BC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571D-A8D4-4ED9-A8D5-F63BF02A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C0D8-6165-452F-B45F-8E196103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9B57-7A79-41FA-95D1-E420ADDB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AC01-0B5C-4DA1-B1E9-BEF497C1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578E-8698-447D-8F18-64366A02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B4B6-4F4D-4598-BA4F-F34B596A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3E8B-DF04-4A35-ADFD-F974334C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D685-DD77-4021-8F39-5CA16DC6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CAAB-9E49-4236-9F48-75E373AF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3A2BA-ED40-4BAB-8B82-21CCD371A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B4DF-E32F-4BAD-BDE0-C4ECB78ED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59AB-4739-4F45-8526-99681297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226A-75D2-4F7E-8611-C17314F6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5FC7-F9EE-4BCC-92F8-397951DD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C844-6751-4D5C-A0EB-3BDC3C27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ED72-52E6-4257-B79F-F1866AB6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9DF1-DC7E-4CAD-8D4A-EB2A4B74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BBC9-224F-428C-AD9B-D811290B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B1C6-2153-43EE-BBEA-9FF6842C1EA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0412-2723-4BB1-8E74-EB934339FE0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b/be/Rainn_Wilson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The Election of 1877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A Controversial Ele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1689120" cy="1952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590920" y="4843440"/>
            <a:ext cx="1942920" cy="2014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 flipH="1">
            <a:off x="7467120" y="533520"/>
            <a:ext cx="1389240" cy="22636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124080" y="213372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awthi Pa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publican Pa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65530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utherford B. Hay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ty-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ublic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me stat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hi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unning Mat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iam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mon Wheele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lectoral vot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ates carried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pular vot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,034,31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centag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7.9%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324480" y="2362320"/>
            <a:ext cx="2637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6870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Democratic part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uel J. Tild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ty- Democrat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me state-New Y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unning mate- Thomas Andrews Hendric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lectoral vote-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ates carried-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pular vote- 4,288,54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centage- 51.0%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818320" y="1828800"/>
            <a:ext cx="2652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File:Rainn Wil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86104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ilden won the popular but Hayes won the electoral collage.  Hayes was ruled the winner.  This election ended up as one of the most controversial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Compromise of 187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y was the compromise made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ettle future election disputes such as the election of 187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withdraw soldiers from sou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ompromise successfully set the south on their own and let them start as a part as the U.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4343400" y="3200400"/>
            <a:ext cx="392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 was the compromise ma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8:24:45Z</dcterms:created>
  <dc:creator>CFISD</dc:creator>
  <dc:description/>
  <dc:language>en-US</dc:language>
  <cp:lastModifiedBy>CFISD</cp:lastModifiedBy>
  <dcterms:modified xsi:type="dcterms:W3CDTF">2010-05-17T18:07:00Z</dcterms:modified>
  <cp:revision>12</cp:revision>
  <dc:subject/>
  <dc:title>The election of 1877</dc:title>
</cp:coreProperties>
</file>