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287-8D76-4F0F-92E9-5C4CFAD3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CF5-5D44-4E45-BF1A-C411C992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735-E48F-4CA4-8476-8546AFF8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EC4-30E8-4DE4-A5EC-1BFE3333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974A-966E-4682-B586-87EA083A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1189-6745-4FBD-9AE9-CD05D1A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59BC-2412-407C-B255-2B6B0753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6CCD-4A26-4FB6-9F13-DEA661A3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C3E8-3E7A-4A27-B402-C534613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F3AE-C06A-43F4-9333-595625AC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386B-E543-44B0-97BC-06D713E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F36-F510-465E-9240-AF861EDD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071E-E515-4680-8F80-D8A38DA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B170-4D76-41E9-B78E-D2EFB7F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8DC5-EA7A-416A-938E-0292B03C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86A5-447A-4796-8444-919D0CCB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D49F-7CBD-4EF6-804C-40EF7A1F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82E-5BBD-4DB9-BD7C-D20542BD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C8E-A2A0-4AAB-96A2-8FFFA69A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FCB-B61D-4600-9FB1-695EBADA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2A6-50C2-435E-AD14-74181221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C24-964D-420E-9DCF-F801885A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AF2-9455-42C3-9E82-19B26F59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052-EB99-4A6D-837E-DE8D409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2E67-C8B5-4F33-812C-C8EDD03FA0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BA7F-C276-41A2-8D83-2557BD4EEF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2133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wthi P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17T18:07:00Z</dcterms:modified>
  <cp:revision>12</cp:revision>
  <dc:subject/>
  <dc:title>The election of 1877</dc:title>
</cp:coreProperties>
</file>