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3C4-1136-4C90-BC48-18B59FCD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84C-31CA-4FC6-BB16-ABC4ACBB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C37-9484-42E5-8C0C-88452253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AAB-EEF7-4C1E-91AF-53CAAAAC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236-85D1-42F5-B7A5-94C37021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DBC-6067-43E6-9C31-06E998B9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1AC-7AE8-4E2A-98B3-F118002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04E-908C-4DF5-A6BD-E36E716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43C-B58F-41BB-9FDD-CBD11A9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767-4846-4367-971C-2553897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5C6-CCA8-4CCB-8359-F067338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556-5F2D-4D6D-B0A5-C4818ED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A49-F3BC-4325-B92F-1904EEA59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ncoln_and_Johnson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th and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by M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en Richar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History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28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82880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toon says; (Johns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ake it quietly Uncle Abe and I will draw it closer than ever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col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A few more stitches Andy and the good old Union will be men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Reconstruction affect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caused people to not get along. It destroyed roads, plantations, and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row Laws were laws to segregate blacks and wh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purpose of the Jim Crow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gregate: separate in almost every public place where they might come i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reason for “black codes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olled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46Z</dcterms:created>
  <dc:creator>cfisd</dc:creator>
  <dc:description/>
  <dc:language>en-US</dc:language>
  <cp:lastModifiedBy>CFISD</cp:lastModifiedBy>
  <dcterms:modified xsi:type="dcterms:W3CDTF">2010-05-06T15:25:21Z</dcterms:modified>
  <cp:revision>2</cp:revision>
  <dc:subject/>
  <dc:title>The South and Reconstruction</dc:title>
</cp:coreProperties>
</file>