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0B1-4147-47CA-A843-95861B5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DB3-3813-4A9B-BA16-140C0A08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D49-D2E7-494D-A32A-DA4ED1D8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C89-89C3-44EB-ADAF-202E6D26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971-6533-4458-8C3A-72E20FD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8B4-5BC6-4E91-B34D-77AFC33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5B6-5148-4233-A00F-916FC45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B10-1C29-4FA7-8867-462A009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50E-8593-4F41-AB20-A175B95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664-DC84-4865-8E3E-C55D9C3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DEC-9962-4B93-9AA8-C27CF83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A5A-E490-4060-A290-86265BD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AAC8-1998-4B8B-88B5-80189C07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ncoln_and_Johnson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th and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by M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en Richar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History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288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828800"/>
            <a:ext cx="198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toon says; (Johns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Take it quietly Uncle Abe and I will draw it closer than ever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col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A few more stitches Andy and the good old Union will be mend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Reconstruction affect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caused people to not get along. It destroyed roads, plantations, and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row Laws were laws to segregate blacks and wh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purpose of the Jim Crow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gregate: separate in almost every public place where they might come i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reason for “black codes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olled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12:46Z</dcterms:created>
  <dc:creator>cfisd</dc:creator>
  <dc:description/>
  <dc:language>en-US</dc:language>
  <cp:lastModifiedBy>CFISD</cp:lastModifiedBy>
  <dcterms:modified xsi:type="dcterms:W3CDTF">2010-05-06T15:25:21Z</dcterms:modified>
  <cp:revision>2</cp:revision>
  <dc:subject/>
  <dc:title>The South and Reconstruction</dc:title>
</cp:coreProperties>
</file>