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5F4B-E7D7-433F-B652-17019BD89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2B2A-9AD7-4D15-A594-CC20F59E0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6410-C8DA-44A0-9D39-DA5AE5DF5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C504-4FC8-422D-88A3-803413F74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8CF6-C5B7-4502-A701-5B60F590C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26B1-BFB7-4E34-818A-B682E31B0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4A64-F3A2-4285-8E50-14702F0A7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6189-E4AF-4779-A45C-30705EF38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B402-E1E0-47E1-96AA-C3BC31319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10C9-64ED-45E2-BC08-93B9DD164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8F41-FD87-43C6-8DCD-491486E1A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B407-3C2E-4DA5-8507-B0C89E6D1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9966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30D5A-E5F4-4545-8454-D23A3ED99F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Lincoln_and_Johnsond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9966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outh and Reconstr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876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lby Mor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ren Richard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 History-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362320" y="1828800"/>
            <a:ext cx="4114800" cy="29718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705720" y="1828800"/>
            <a:ext cx="19810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artoon says; (Johnson)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“Take it quietly Uncle Abe and I will draw it closer than ever”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Lincoln)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“A few more stitches Andy and the good old Union will be mended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9966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Reconstruction affect the Sout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nstruction caused people to not get along. It destroyed roads, plantations, and ho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9966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e: Jim Crow Law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im Crow Laws were laws to segregate blacks and whi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9966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was the purpose of the Jim Crow Law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segregate: separate in almost every public place where they might come in conta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9966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was the reason for “black codes”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controlled freed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5T18:12:46Z</dcterms:created>
  <dc:creator>cfisd</dc:creator>
  <dc:description/>
  <dc:language>en-US</dc:language>
  <cp:lastModifiedBy>CFISD</cp:lastModifiedBy>
  <dcterms:modified xsi:type="dcterms:W3CDTF">2010-05-06T15:25:21Z</dcterms:modified>
  <cp:revision>2</cp:revision>
  <dc:subject/>
  <dc:title>The South and Reconstruction</dc:title>
</cp:coreProperties>
</file>