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A2F-8B75-4E1E-837A-524256BD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BA1-2424-4701-994D-BF50B17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084-6565-44BA-A53C-4459A81C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D27-50BE-4FA6-A2E6-B8377482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08EB-ED5D-42FA-BD38-CE04E271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B2A1-FFE0-4DAB-ACB7-291D09A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9540-CBAB-48D8-96A1-569AA405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099B-7F10-4289-85F0-DE277737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01DF-A397-49E0-B7C7-43587AC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B139-A172-44BA-8A92-3ED6458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2565-DE2B-432D-81E1-123D0DEC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349-0B58-488F-956F-162304AD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62E-F54A-423C-AB98-83731A7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62A8-458C-43DF-BBF1-244D824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BE9F-4B3E-4BB2-B76D-99696F3D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A8C0-581A-4F25-A5C1-8CB323A6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CB3-A096-485E-B40C-2B20A1C5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46B-34B9-4B01-BAF4-D9596BD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437-0959-4DDA-A362-B19C6F5D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F6A-C3FD-4BF6-9F07-E02DBF9E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1E9-272A-44DF-A7AD-11D0066A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87F-4F3F-4CA6-B115-788235DD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AD4-491F-48EE-A95A-A634573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880-E4A2-4D40-9E0D-A466B27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1AA-02D6-4A76-9758-B123E685A9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A126-5C74-4E56-863F-555B7E46AE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unger_Andrew_Johns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mpeachment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Emily Bishop and Megan Kub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an Impeach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achment is to accuse a public official of wrong conduct during office before a competent tribu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eps to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f Representatives votes on an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House sends the case to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ial the Senate argues about the presidents mis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s cast two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quired to have a 2/3 majority vote to be imp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president ever to be impeached was Andrew Johnson during the reconstruction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liberately violated the Tenure of Office Act by removing Stanton from office after the senate said he c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ppointed some generals the radicals opposed as commanders of the southern military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ult of Johnson’s Impeach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the Senate was one vote away from impeaching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votes it was 35 to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Johnson stayed in office until the end of his term in March of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0120" y="1981080"/>
            <a:ext cx="2914560" cy="365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Andrew_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re Office 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hibited the president from removing government officials without the Senate’s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violated the tradition that presidents controlled their cabinet, and it threatened presidential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11Z</dcterms:created>
  <dc:creator>cfisd</dc:creator>
  <dc:description/>
  <dc:language>en-US</dc:language>
  <cp:lastModifiedBy>cfisd</cp:lastModifiedBy>
  <dcterms:modified xsi:type="dcterms:W3CDTF">2010-05-05T18:25:44Z</dcterms:modified>
  <cp:revision>2</cp:revision>
  <dc:subject/>
  <dc:title>Impeachments</dc:title>
</cp:coreProperties>
</file>