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6FE-B68F-44A3-A47A-552FF868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351-F3A3-4C28-8DFA-90998F4F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72C-7B3B-4E34-8DD1-A2727B66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95E-04AC-4E69-9FBA-29E0A65E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05DE-8004-4860-B106-F89B2B68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DDC4-79A4-4E39-9B11-E2518B8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8321-A1BB-438D-B5B9-A7F6625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3FC1-C202-4E9B-AA26-5D1A96C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79C8-C151-437D-AC51-116CE612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3764-5A13-42BB-8A9B-84706F9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3C0E-415A-421F-9700-BB48ED0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9BB-2A51-4C8E-BD81-03960F2E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97A6-902B-45EB-81A4-6E7BF78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8D40-E4CB-4045-903F-A8F8930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D182-AA70-4252-A820-F855449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FB56-F956-482C-8770-12A12676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FD0B-6B9D-456B-88BE-27DB0B7E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402-696A-4715-B3F5-C7BB9E7A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898-F60A-4150-A00D-64C09664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054-7863-47C0-970B-9F520635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EE5-E15B-448A-ADCE-C91F3F5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8A5-CB48-4722-A87E-24692D29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4BA-D902-40D3-9FAB-483EC92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97A-42EA-4768-8BB9-08253E6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0E4-9B02-490C-A6C2-7551E20C8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44A-F639-4B85-B7CF-E49820BAE4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Younger_Andrew_Johns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mpeachment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Emily Bishop and Megan Kub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n Impeachmen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achment is to accuse a public official of wrong conduct during office before a competent tribu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ps to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of Representatives votes on an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House sends the case to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ial the Senate argues about the presidents mis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s cast two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quired to have a 2/3 majority vote to be imp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resident ever to be impeached was Andrew Johnson during the reconstruction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liberately violated the Tenure of Office Act by removing Stanton from office after the senate said he coul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ppointed some generals the radicals opposed as commanders of the southern military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ult of 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the Senate was one vote away from impeaching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it was 35 to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Johnson stayed in office until the end of his term in March of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0120" y="1981080"/>
            <a:ext cx="291456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Andrew_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re Office 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hibited the president from removing government officials without the Senate’s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violated the tradition that presidents controlled their cabinet, and it threatened presidenti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11Z</dcterms:created>
  <dc:creator>cfisd</dc:creator>
  <dc:description/>
  <dc:language>en-US</dc:language>
  <cp:lastModifiedBy>cfisd</cp:lastModifiedBy>
  <dcterms:modified xsi:type="dcterms:W3CDTF">2010-05-05T18:25:44Z</dcterms:modified>
  <cp:revision>2</cp:revision>
  <dc:subject/>
  <dc:title>Impeachments</dc:title>
</cp:coreProperties>
</file>