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1F4-DBB3-40B1-A851-6155C7AA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06F-2FAE-46A4-961D-F16B0FCA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68F-0C51-4979-9950-F184CD5C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8D9-EB0A-4428-A723-EF8CFFC6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3DDA-08C9-404F-9CC5-EBD6B7B0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E75E-FA33-4AAB-A0AC-8EB07DB9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59E9-9D09-4EF3-AC01-5157B957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29EE-1C7A-4FA0-8A6C-0C145A1D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6F5E-DB77-4B31-B7F3-02857F5A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A3F0-F9AD-4C22-B026-A6D8A74A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2A2B-E2B2-43F7-8CA7-D9A8CC7D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87D-0708-4393-AB5D-4292A5B4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BA19-19C9-4680-80D5-C24219A1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14E2-341A-43DD-9AB3-EF01A2F5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485A-B5F9-4F15-870B-4965D604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7421-6DBD-47EF-8B7E-DEFA86A1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9289-6BFB-4AF0-AFF3-23CDE761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8CB-F566-4EEE-9C86-E5A7A917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6DF-BE73-4E6C-BD1B-63BAD440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0F7-064A-4C66-840C-9F66C38C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94BD-7389-4EE7-BD15-B4816B9A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08C-771F-4C77-BA10-679BC0E1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20C-8A71-4161-86F8-8F556181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7EF-1231-48AF-AA0C-ACE1408C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2FCD-5035-4032-8790-E06E83620B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C9C9-A7C1-4E4F-9743-CE5DE27BBC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Younger_Andrew_Johns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Impeachment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Emily Bishop and Megan Kubec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is an Impeachmen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eachment is to accuse a public official of wrong conduct during office before a competent tribu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eps to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use of Representatives votes on an impe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House sends the case to the 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ial the Senate argues about the presidents miscon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ators cast two v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quired to have a 2/3 majority vote to be imp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Johnson’s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president ever to be impeached was Andrew Johnson during the reconstruction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eliberately violated the Tenure of Office Act by removing Stanton from office after the senate said he could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ppointed some generals the radicals opposed as commanders of the southern military distr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sult of Johnson’s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votes the Senate was one vote away from impeaching John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votes it was 35 to 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sult, Johnson stayed in office until the end of his term in March of 18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0120" y="1981080"/>
            <a:ext cx="2914560" cy="3657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10080" y="563868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en.wikipedia.org/wiki/Andrew_Joh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nure Office A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rohibited the president from removing government officials without the Senate’s appro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violated the tradition that presidents controlled their cabinet, and it threatened presidential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2:11Z</dcterms:created>
  <dc:creator>cfisd</dc:creator>
  <dc:description/>
  <dc:language>en-US</dc:language>
  <cp:lastModifiedBy>cfisd</cp:lastModifiedBy>
  <dcterms:modified xsi:type="dcterms:W3CDTF">2010-05-05T18:25:44Z</dcterms:modified>
  <cp:revision>2</cp:revision>
  <dc:subject/>
  <dc:title>Impeachments</dc:title>
</cp:coreProperties>
</file>