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DDDF-1C05-4AC3-AC15-C55B31A63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64B0-D4F3-4C2B-90D5-1B6BDD48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0062-0118-4588-8F99-F4E498E09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2F8E-ACA3-4FAD-B70E-ACCE05AC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B72F-6E02-4A62-AEBA-8B9FE594C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7659-36FE-4BB9-B404-1F273DBD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12E6-8FB8-488A-9BA3-D53F778A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7261-0112-4012-A77D-9AD2EAF0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57A8-8041-40F9-B34C-1E256373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C9D9-6E5A-4227-8BBA-061A92C0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018A-8D82-4829-BAD1-CF936B31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CB6F-19F6-47C2-8BB2-06E28874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5D7F-F13B-41E5-99EA-9783AE60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C7D4-CCEE-47EE-9136-E8E81B6F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55A0-33FB-43F8-8724-4EBE8DF7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86A1-5A8A-4EDC-AB48-2219C8240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CAA8-E8F4-4125-B674-A9007716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5684-DEE7-4672-976B-253BFE65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A6D9-05A2-4E62-8590-57952AF5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1258-F00B-4A29-9660-167B2A18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D71E-656F-44E8-AC9C-ED0841B8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6A8D-9C3B-4708-A5CA-D0C7862B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5E87-5B79-43BB-81DC-70BC76AC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B5C6-7BC4-4C6E-BB0E-12854CF4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064A-13B2-42D3-B053-3CB97A659C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BFB0-D90F-4160-B6BC-35BB4307D0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Younger_Andrew_Johnson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Impeachment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: Emily Bishop and Megan Kubec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is an Impeachmen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mpeachment is to accuse a public official of wrong conduct during office before a competent tribu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505320" y="2666880"/>
            <a:ext cx="3276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eps to Impeachm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use of Representatives votes on an impeach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House sends the case to the Se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rial the Senate argues about the presidents miscon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ators cast two v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required to have a 2/3 majority vote to be impea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Johnson’s Impeachm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president ever to be impeached was Andrew Johnson during the reconstruction 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deliberately violated the Tenure of Office Act by removing Stanton from office after the senate said he could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appointed some generals the radicals opposed as commanders of the southern military distr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sult of Johnson’s Impeachm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oth votes the Senate was one vote away from impeaching John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oth votes it was 35 to 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result, Johnson stayed in office until the end of his term in March of 18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0120" y="1981080"/>
            <a:ext cx="2914560" cy="3657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410080" y="5638680"/>
            <a:ext cx="259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en.wikipedia.org/wiki/Andrew_John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enure Office Ac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prohibited the president from removing government officials without the Senate’s appro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t violated the tradition that presidents controlled their cabinet, and it threatened presidential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8:12:11Z</dcterms:created>
  <dc:creator>cfisd</dc:creator>
  <dc:description/>
  <dc:language>en-US</dc:language>
  <cp:lastModifiedBy>cfisd</cp:lastModifiedBy>
  <dcterms:modified xsi:type="dcterms:W3CDTF">2010-05-05T18:25:44Z</dcterms:modified>
  <cp:revision>2</cp:revision>
  <dc:subject/>
  <dc:title>Impeachments</dc:title>
</cp:coreProperties>
</file>