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B8E6-3705-4C7E-8139-2FE9B16B5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5D13-4991-41C6-8E30-884ED4C3B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8678-5906-41D6-B92C-6FE579797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4CF5-CEF8-4C22-A097-4EEE00499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34AE1-159A-45FF-B072-428D38068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D89DF-656E-4129-B5F2-60BC2CCDA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0074E-F6EE-4722-B96C-E11AF3814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8C74C-8251-4649-B20C-F2C6679A1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39D66-86A1-4E48-9217-9A1E4ACD0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9A518-DC97-4248-9EA1-EB83AA8E0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D3D80-BCA5-4FC2-A6F7-2E4881C6A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3570-0E5C-4AE6-86B3-06ADEEEE7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84C1B-989C-4017-A020-22D338A3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05D99-25E2-4063-BB6B-ADE3A3F4C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12D15-1D71-4EDB-9F82-B49EDAF24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B4A78-5220-4D80-BD06-F5029446B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2B079-60EC-437A-A983-6483A4819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44B9-D600-49DE-A65D-47CFDC229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6430-106B-4031-81FA-B5CE4DD55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CEBB-FA87-40B7-8708-104FE5D71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0F51-C6F4-4500-BCF1-D3646A236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6926-0D57-49CF-AC6F-D5F75586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44F5-1C79-4D8D-B61E-813AE52D5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6DCF-9E13-4A02-A333-5EEF6CA6C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D774B-5B7C-44DF-9FAD-5D2256D1AED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BDFD5-2230-4A14-89E4-CB39496DAF0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Younger_Andrew_Johnson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Impeachments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: Emily Bishop and Megan Kubec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hat is an Impeachment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mpeachment is to accuse a public official of wrong conduct during office before a competent tribu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505320" y="2666880"/>
            <a:ext cx="32763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teps to Impeachmen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ouse of Representatives votes on an impeach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the House sends the case to the Se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rial the Senate argues about the presidents miscon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ators cast two v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required to have a 2/3 majority vote to be impeac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Johnson’s Impeachmen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rst president ever to be impeached was Andrew Johnson during the reconstruction 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deliberately violated the Tenure of Office Act by removing Stanton from office after the senate said he couldn’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appointed some generals the radicals opposed as commanders of the southern military distri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esult of Johnson’s Impeachmen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both votes the Senate was one vote away from impeaching Johns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both votes it was 35 to 1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a result, Johnson stayed in office until the end of his term in March of 186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80120" y="1981080"/>
            <a:ext cx="2914560" cy="36576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410080" y="5638680"/>
            <a:ext cx="2590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en.wikipedia.org/wiki/Andrew_John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enure Office Ac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prohibited the president from removing government officials without the Senate’s approv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ct violated the tradition that presidents controlled their cabinet, and it threatened presidential po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5T18:12:11Z</dcterms:created>
  <dc:creator>cfisd</dc:creator>
  <dc:description/>
  <dc:language>en-US</dc:language>
  <cp:lastModifiedBy>cfisd</cp:lastModifiedBy>
  <dcterms:modified xsi:type="dcterms:W3CDTF">2010-05-05T18:25:44Z</dcterms:modified>
  <cp:revision>2</cp:revision>
  <dc:subject/>
  <dc:title>Impeachments</dc:title>
</cp:coreProperties>
</file>