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4F5-F634-475C-B690-1AC84BD2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292-5ED5-4AA1-B513-F65539AD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D52-385E-49D7-B8D3-7DB72D93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791-F1AF-4B53-9807-8B0749FF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73A0-77BA-4222-803B-8BDE06A5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AA7E-0554-4624-84D1-7831D0A2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7BD3-7FB7-4628-8A6D-53AA652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ABAD-00E1-4CD4-8ACB-6CDAC9C8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DEDD-7A57-451A-B897-37DC97E1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945A-CDF4-499A-99F7-AE93A0BB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5667-04AA-4054-9684-079DE20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886-5D78-4485-AE07-1FCEF3C4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05B1-2B2E-48CD-A21C-59A65697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79FA-19AD-43BA-A9E5-A8AEF16A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2C10-B694-4960-A7E1-49E9AA06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680D-993F-4D43-99B2-493125BE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A3B2-B08E-4B50-AFF7-717F6691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958-D4F5-49F9-8BDE-F2090E8C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5F0-14C5-409F-8101-540A9DE8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E20-7315-4EDC-8C23-CED68C22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9CC-DFBF-4502-A4FC-88937763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32B-FD44-4F6F-ADF5-D709C50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F31-4B91-4A30-A6FF-0E204CE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9B2-9C48-4AED-9D56-48986F8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33C3-922A-460A-88BA-341D06FC26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6276-EBA8-4BE4-BE61-8608BA5025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Younger_Andrew_Johns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mpeachment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Emily Bishop and Megan Kube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an Impeachmen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achment is to accuse a public official of wrong conduct during office before a competent tribu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ps to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 of Representatives votes on an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House sends the case to the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ial the Senate argues about the presidents mis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ors cast two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quired to have a 2/3 majority vote to be imp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president ever to be impeached was Andrew Johnson during the reconstruction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liberately violated the Tenure of Office Act by removing Stanton from office after the senate said he coul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ppointed some generals the radicals opposed as commanders of the southern military distr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ult of 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the Senate was one vote away from impeaching Joh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it was 35 to 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Johnson stayed in office until the end of his term in March of 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0120" y="1981080"/>
            <a:ext cx="2914560" cy="365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008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Andrew_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nure Office 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hibited the president from removing government officials without the Senate’s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violated the tradition that presidents controlled their cabinet, and it threatened presidential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11Z</dcterms:created>
  <dc:creator>cfisd</dc:creator>
  <dc:description/>
  <dc:language>en-US</dc:language>
  <cp:lastModifiedBy>cfisd</cp:lastModifiedBy>
  <dcterms:modified xsi:type="dcterms:W3CDTF">2010-05-05T18:25:44Z</dcterms:modified>
  <cp:revision>2</cp:revision>
  <dc:subject/>
  <dc:title>Impeachments</dc:title>
</cp:coreProperties>
</file>