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1F860-5CEF-4CF9-BBD9-13546D79D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D6129-3F20-456F-B0C3-EAAC3877F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A7508-BDBA-47BF-BAFD-F9647F24B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A42DD-31F9-45E2-A608-3C4FF81F8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6112A-8941-42E3-AAC8-4023F3567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60784-F574-4074-8D15-72D536DB4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C3DB9-F294-4B87-858A-516997235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B40C6-FC5C-437F-B702-B4EA0354C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5B9D5-8CBA-42C9-9D0D-F4823906B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5FC8-262C-4E9A-BB34-A6D787ECE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C6416-B492-4FBC-9E98-CD01BE94B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0D0E3-2BDF-43AC-9C36-6CDA8E719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AD63-7220-4BF3-9F75-30AB70C26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Freedman%27s_bureau.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80880"/>
            <a:ext cx="7772400" cy="19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men’s Bureau</a:t>
            </a:r>
            <a:br>
              <a:rPr sz="4000"/>
            </a:br>
            <a:r>
              <a:rPr b="0" lang="en-US" sz="4000" spc="-1" strike="noStrike">
                <a:solidFill>
                  <a:srgbClr val="000000"/>
                </a:solidFill>
                <a:latin typeface="Arial"/>
              </a:rPr>
              <a:t>Black Codes</a:t>
            </a:r>
            <a:br>
              <a:rPr sz="4000"/>
            </a:br>
            <a:r>
              <a:rPr b="0" lang="en-US" sz="4000" spc="-1" strike="noStrike">
                <a:solidFill>
                  <a:srgbClr val="000000"/>
                </a:solidFill>
                <a:latin typeface="Arial"/>
              </a:rPr>
              <a:t>Overrid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5257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aylor Griffi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ie Benjamin</a:t>
            </a: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2895480" y="2362320"/>
            <a:ext cx="3353040" cy="26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men’s Bureau</a:t>
            </a:r>
            <a:br>
              <a:rPr sz="4000"/>
            </a:br>
            <a:r>
              <a:rPr b="0" lang="en-US" sz="4000" spc="-1" strike="noStrike">
                <a:solidFill>
                  <a:srgbClr val="000000"/>
                </a:solidFill>
                <a:latin typeface="Arial"/>
              </a:rPr>
              <a:t>1865 - 1872</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eedmen’s Bureau was a U.S. federal government agency that helped distressed refugees and freedmen, freed slaves, in 1865-1872 during the Reconstruction era of the United St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Bureau’s intention was to help southern whites and blacks make transition from a society based on slavery to freed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men’s Bureau</a:t>
            </a:r>
            <a:br>
              <a:rPr sz="4000"/>
            </a:br>
            <a:r>
              <a:rPr b="0" i="1" lang="en-US" sz="4000" spc="-1" strike="noStrike">
                <a:solidFill>
                  <a:srgbClr val="000000"/>
                </a:solidFill>
                <a:latin typeface="Arial"/>
              </a:rPr>
              <a:t>Termination</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Oliver Howard was leader of the Freedmen’s Bureau. Howard's agency was corrupted, gained inefficiency, and charges of misappropriation of funds. The agency also became the pawn of the corrupt Radical Republican government and was used to help maintain Republican control of the states occupied by federal troops. Congress discontinued the Freedmen's Bureau on July in 1872.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ck Cod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1:42Z</dcterms:created>
  <dc:creator>cfisd</dc:creator>
  <dc:description/>
  <dc:language>en-US</dc:language>
  <cp:lastModifiedBy>cfisd</cp:lastModifiedBy>
  <dcterms:modified xsi:type="dcterms:W3CDTF">2010-05-05T18:32:14Z</dcterms:modified>
  <cp:revision>2</cp:revision>
  <dc:subject/>
  <dc:title>Freedmen’s Bureau Black Codes Override</dc:title>
</cp:coreProperties>
</file>