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3FF8A-EDF9-45A9-84EC-C5953B203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F471F-E990-4880-81CF-30516EC25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C45C7-86D6-4B80-96F0-221224F8A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2B194-6A4E-4E4B-B04A-5051C7155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FABB7-6BC4-471A-BC28-FE05B1C5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B297-3F40-4707-A1A9-278C47F56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E547F-F9BA-4AA6-ACDF-E6DA9B64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5483-6321-4E46-B6C9-39FADF0E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C0A3-5C4E-43BC-80D7-A918A5E8A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FA75-79C2-4C28-9A4C-FD5EBAD2F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A7AE6-9378-4389-8784-01E353E7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C091-4B3E-4D00-8741-63FC2708D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7227-BD80-4D21-85ED-33AEFDA9A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Black Codes</a:t>
            </a:r>
            <a:br>
              <a:rPr sz="4000"/>
            </a:br>
            <a:r>
              <a:rPr b="0" lang="en-US" sz="4000" spc="-1" strike="noStrike">
                <a:solidFill>
                  <a:srgbClr val="000000"/>
                </a:solidFill>
                <a:latin typeface="Arial"/>
              </a:rPr>
              <a:t>Overrid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aylor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enjamin</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1865 - 1872</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Bureau’s intention was to help southern whites and blacks make transition from a society based on slavery to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i="1" lang="en-US" sz="4000" spc="-1" strike="noStrike">
                <a:solidFill>
                  <a:srgbClr val="000000"/>
                </a:solidFill>
                <a:latin typeface="Arial"/>
              </a:rPr>
              <a:t>Termina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Cod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5T18:32:14Z</dcterms:modified>
  <cp:revision>2</cp:revision>
  <dc:subject/>
  <dc:title>Freedmen’s Bureau Black Codes Override</dc:title>
</cp:coreProperties>
</file>