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954-BBD1-4EBA-B83C-2EFCD6EE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45D-5685-415A-B564-A149271E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998-1DAA-4E9E-B134-6AF457D9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959-037F-4D28-856B-2CF69DE8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5E5-E20D-4CD7-99D1-F0C24036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FE6-FCDC-4B13-AF20-3CB0043C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F60-9095-4F60-A7DE-72ADFD25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E09-37B4-439F-AA16-B4CEEC09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03E-754E-4B42-8C01-3AD7C58E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8D3-357C-4B15-9ED6-0DB862EA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4CD-B478-4340-B8FF-C7F3F0ED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307-BFB9-4D63-938C-323C9BF6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7AA1-6151-4896-9081-E2F66FF8A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Horace-Greeley-Baker.jpe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ericanhistory.abc-clio.com/Search/Display.aspx?categoryid=22&amp;searchtext=ulysses+s.+grant&amp;type=simple&amp;option=all&amp;entryid=270759&amp;issublink=true&amp;fromsearch=false" TargetMode="External"/><Relationship Id="rId2" Type="http://schemas.openxmlformats.org/officeDocument/2006/relationships/hyperlink" Target="http://en.wikipedia.org/wiki/File:Horace-Greeley-Baker.jpe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rist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n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u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Title: Ulysses S. Grant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Ulysses S. G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Born: Pleasant Point, Ohio on April 27, 18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School: attended public school in Georgetown until his father sent him to West Point Military Acad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Best Known For: being the Union Commander in the Civil War; President of the United States of America from 1868-1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ile:Horace-Greeley-Baker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race Gree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Born: February 3, 1811 in Amherst, New Hampsh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School: his formal education ended when he was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Best Known For: running against Ulysses S. Grant in the presidential election of 18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: Radical Republ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ley: Liberal Republ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on: Ulysses S.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Faced By the New President: new political party (Liberal Republicans); the “Panic of 1873”; problems regarding African-Americans and their rights; issues regarding the Ku Klux K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'Brien, Steven G. "Ulysses S. Grant."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merican Histo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 ABC-CLIO, 2010. Web. 5 May 2010. &lt;http://www.americanhistory.abc-clio.co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mericanhistory.abc-clio.com/Search/Display.aspx?categoryid=22&amp;searchtext=ulysses+s.+grant&amp;type=simple&amp;option=all&amp;entryid=270759&amp;issublink=true&amp;fromsearch=fa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File:Horace-Greeley-Baker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americanhistory.abc-clio.com/Search/Display.aspx?categoryid=22&amp;entryid=246927&amp;searchtext=horace+greeley&amp;type=simple&amp;option=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library.duke.edu/exhibits/sevenelections/elections/1872/issues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n.wikipedia.org/wiki/United_States_presidential_election,_187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3:13Z</dcterms:created>
  <dc:creator>CFISD</dc:creator>
  <dc:description/>
  <dc:language>en-US</dc:language>
  <cp:lastModifiedBy>cfisd</cp:lastModifiedBy>
  <dcterms:modified xsi:type="dcterms:W3CDTF">2010-05-10T18:34:50Z</dcterms:modified>
  <cp:revision>6</cp:revision>
  <dc:subject/>
  <dc:title>Election of 1872</dc:title>
</cp:coreProperties>
</file>