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49B-8338-4806-9D95-3FEF34F1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4D3-508F-4FF5-A69A-519507A9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1CA-1A8F-4FDA-8E95-0979182B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856-CF91-44E7-AC7A-461ABF42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48D-1F9F-4551-96EE-AC682344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9D9-E8CB-4778-B083-F8F167C0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A78-DC41-4D9E-82B5-C4F9FF6B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9DB-FC0D-4F3D-AA8C-F4AAE620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3EB-6E73-4080-9DD0-27DA57E5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1D5-BF40-41F0-B2CC-BEB44C55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5C3-FE0B-4CEB-B8B4-C834051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902-5E55-4E8A-BE6A-3698AC7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2AD6-5E29-4896-8A84-57C10859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Horace-Greeley-Baker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istory.abc-clio.com/Search/Display.aspx?categoryid=22&amp;searchtext=ulysses+s.+grant&amp;type=simple&amp;option=all&amp;entryid=270759&amp;issublink=true&amp;fromsearch=false" TargetMode="External"/><Relationship Id="rId2" Type="http://schemas.openxmlformats.org/officeDocument/2006/relationships/hyperlink" Target="http://en.wikipedia.org/wiki/File:Horace-Greeley-Baker.jpe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itle: Ulysses S. Grant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lysses S.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orn: Pleasant Point, Ohio on April 27, 1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School: attended public school in Georgetown until his father sent him to West Point Military Acad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est Known For: being the Union Commander in the Civil War; President of the United States of America from 1868-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le:Horace-Greeley-Bak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ace Gree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orn: February 3, 1811 in Amherst, New Hamps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School: his formal education ended when he was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est Known For: running against Ulysses S. Grant in the presidential election of 1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: Radic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ley: Liber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n: Ulysses S.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aced By the New President: new political party (Liberal Republicans); the “Panic of 1873”; problems regarding African-Americans and their rights; issues regarding the Ku Klux K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'Brien, Steven G. "Ulysses S. Grant."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merican Histo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ABC-CLIO, 2010. Web. 5 May 2010. &lt;http://www.americanhistory.abc-clio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ericanhistory.abc-clio.com/Search/Display.aspx?categoryid=22&amp;searchtext=ulysses+s.+grant&amp;type=simple&amp;option=all&amp;entryid=270759&amp;issublink=true&amp;fromsearch=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ile:Horace-Greeley-Baker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mericanhistory.abc-clio.com/Search/Display.aspx?categoryid=22&amp;entryid=246927&amp;searchtext=horace+greeley&amp;type=simple&amp;option=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ibrary.duke.edu/exhibits/sevenelections/elections/1872/issue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United_States_presidential_election,_18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3:13Z</dcterms:created>
  <dc:creator>CFISD</dc:creator>
  <dc:description/>
  <dc:language>en-US</dc:language>
  <cp:lastModifiedBy>cfisd</cp:lastModifiedBy>
  <dcterms:modified xsi:type="dcterms:W3CDTF">2010-05-10T18:34:50Z</dcterms:modified>
  <cp:revision>6</cp:revision>
  <dc:subject/>
  <dc:title>Election of 1872</dc:title>
</cp:coreProperties>
</file>