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94B-6B97-400B-B0B0-28E67848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050-1109-450E-9E1C-F4C12027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681-AF5D-4F48-BD4B-0192F044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C8F-197D-4B07-A85A-5B3639A0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29C-637F-4176-8671-03EC3799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E64-0A29-4E7B-A5C6-D51BD63A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442-2284-4D78-B1A6-EE96CB05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0C3-8E47-44B3-A57F-B7EF040F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BF7-5044-43E7-BD63-CF0AB416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A9D-1A41-4D8E-A10E-06D4DD0D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570-D006-4D79-A695-EA10FA0B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4A4-8D12-4897-BA76-E40C0931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8C95-90A3-4336-9EF3-1004D5919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Horace-Greeley-Baker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ericanhistory.abc-clio.com/Search/Display.aspx?categoryid=22&amp;searchtext=ulysses+s.+grant&amp;type=simple&amp;option=all&amp;entryid=270759&amp;issublink=true&amp;fromsearch=false" TargetMode="External"/><Relationship Id="rId2" Type="http://schemas.openxmlformats.org/officeDocument/2006/relationships/hyperlink" Target="http://en.wikipedia.org/wiki/File:Horace-Greeley-Baker.jpe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ist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n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u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itle: Ulysses S. Grant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Ulysses S. G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Born: Pleasant Point, Ohio on April 27, 18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School: attended public school in Georgetown until his father sent him to West Point Military Acad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Best Known For: being the Union Commander in the Civil War; President of the United States of America from 1868-1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ile:Horace-Greeley-Baker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race Gree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Born: February 3, 1811 in Amherst, New Hampsh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School: his formal education ended when he was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Best Known For: running against Ulysses S. Grant in the presidential election of 1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: Radical Republ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ley: Liberal Republ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on: Ulysses S.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Faced By the New President: new political party (Liberal Republicans); the “Panic of 1873”; problems regarding African-Americans and their rights; issues regarding the Ku Klux K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'Brien, Steven G. "Ulysses S. Grant."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merican Histo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 ABC-CLIO, 2010. Web. 5 May 2010. &lt;http://www.americanhistory.abc-clio.co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mericanhistory.abc-clio.com/Search/Display.aspx?categoryid=22&amp;searchtext=ulysses+s.+grant&amp;type=simple&amp;option=all&amp;entryid=270759&amp;issublink=true&amp;fromsearch=fa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File:Horace-Greeley-Baker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mericanhistory.abc-clio.com/Search/Display.aspx?categoryid=22&amp;entryid=246927&amp;searchtext=horace+greeley&amp;type=simple&amp;option=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library.duke.edu/exhibits/sevenelections/elections/1872/issues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n.wikipedia.org/wiki/United_States_presidential_election,_187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3:13Z</dcterms:created>
  <dc:creator>CFISD</dc:creator>
  <dc:description/>
  <dc:language>en-US</dc:language>
  <cp:lastModifiedBy>cfisd</cp:lastModifiedBy>
  <dcterms:modified xsi:type="dcterms:W3CDTF">2010-05-10T18:34:50Z</dcterms:modified>
  <cp:revision>6</cp:revision>
  <dc:subject/>
  <dc:title>Election of 1872</dc:title>
</cp:coreProperties>
</file>