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702-EB0E-48CD-A5AF-884BC557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C3F-0B38-4BF2-9ACD-1F2A79DC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B53-697A-482D-B551-FCD14880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182-E301-4A89-B574-CF0474E4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538-C150-40DC-A72C-7F31C0AD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531-6136-46A7-BA07-2EB9745F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144-FF0F-4677-A248-1A406BF6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145-BF33-48EF-94A0-B83759D7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CD6-3A5F-4242-9937-DF41B07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77E-F0C8-4506-BE53-B3A8C70E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9BC-EE8D-40B2-B80F-0C8176D6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57D-381B-45A2-89F5-120264E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6A92-7FA4-4A03-A981-867AE6633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Horace-Greeley-Baker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ericanhistory.abc-clio.com/Search/Display.aspx?categoryid=22&amp;searchtext=ulysses+s.+grant&amp;type=simple&amp;option=all&amp;entryid=270759&amp;issublink=true&amp;fromsearch=false" TargetMode="External"/><Relationship Id="rId2" Type="http://schemas.openxmlformats.org/officeDocument/2006/relationships/hyperlink" Target="http://en.wikipedia.org/wiki/File:Horace-Greeley-Baker.jpe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ist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n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u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itle: Ulysses S. Grant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Ulysses S. G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orn: Pleasant Point, Ohio on April 27, 18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School: attended public school in Georgetown until his father sent him to West Point Military Acad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Best Known For: being the Union Commander in the Civil War; President of the United States of America from 1868-1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le:Horace-Greeley-Baker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race Gree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orn: February 3, 1811 in Amherst, New Hampsh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X-Files"/>
              </a:rPr>
              <a:t>School: his formal education ended when he was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X-Fil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X-Files"/>
              </a:rPr>
              <a:t>Best Known For: running against Ulysses S. Grant in the presidential election of 1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: Radic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ley: Liberal Republ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on: Ulysses S.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Faced By the New President: new political party (Liberal Republicans); the “Panic of 1873”; problems regarding African-Americans and their rights; issues regarding the Ku Klux K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'Brien, Steven G. "Ulysses S. Grant."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merican Histo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 ABC-CLIO, 2010. Web. 5 May 2010. &lt;http://www.americanhistory.abc-clio.co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mericanhistory.abc-clio.com/Search/Display.aspx?categoryid=22&amp;searchtext=ulysses+s.+grant&amp;type=simple&amp;option=all&amp;entryid=270759&amp;issublink=true&amp;fromsearch=fa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File:Horace-Greeley-Baker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mericanhistory.abc-clio.com/Search/Display.aspx?categoryid=22&amp;entryid=246927&amp;searchtext=horace+greeley&amp;type=simple&amp;option=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library.duke.edu/exhibits/sevenelections/elections/1872/issues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n.wikipedia.org/wiki/United_States_presidential_election,_187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3:13Z</dcterms:created>
  <dc:creator>CFISD</dc:creator>
  <dc:description/>
  <dc:language>en-US</dc:language>
  <cp:lastModifiedBy>cfisd</cp:lastModifiedBy>
  <dcterms:modified xsi:type="dcterms:W3CDTF">2010-05-10T18:34:50Z</dcterms:modified>
  <cp:revision>6</cp:revision>
  <dc:subject/>
  <dc:title>Election of 1872</dc:title>
</cp:coreProperties>
</file>