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51A-663F-4F9B-8D41-6FCCE688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94D-2CFB-4C02-B190-16646532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6DD-D190-46D7-99AF-A8EA2F92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682-5D01-48B5-9F6C-66533DD2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7BC2-3BB2-47B3-A5CC-9B0D3EEB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E4EB-E197-4F89-97F5-464FA6A8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E2FC-BF7C-4DA3-A936-700CE00E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FACC-1B11-434C-9142-C19706EA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986F-78E7-403A-AE0E-53B7BB2F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4FF0-422B-4A7C-85D0-F5C9FEB6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78B5-8455-4FCC-B5C1-E28C1BC4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FF9-44D3-44AB-A6B0-32EB5596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55FA-23CC-41E5-AC45-042C7419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BB16-8D7A-4951-A8E2-13E2C93A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57D1-0D14-46FB-89CD-9C50EA34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10BD-CE8E-48E0-BAD3-F3D4DB3F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1F1F-B36F-4187-B244-F596DA55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DB3-AAE3-41CB-BFA5-20EB293A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458-F25F-4D35-8457-BFF1615E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ADF-9A9D-47BD-84C1-336FBBF2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6FD-5460-4ED8-8244-6BBBC576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6FC-587F-4BB1-B012-4F673CE7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A9C-2DAD-424A-B540-7AC0B51E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97A-CCB1-4F35-95FE-3C556E2E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B24D-5957-4FD0-A8B7-3ADCFE3F49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55A5-9F1E-4F51-B6EF-3B98E27EA5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Cameron W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 Sh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" y="1447920"/>
            <a:ext cx="8915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dvantages and Disadvantages of an Agricultural Econom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0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4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Dis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surplus for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social network based on primitive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e helped lead to the rise of human civil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ood costs and greater food availability to the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s the natural habitat of some wild creatures and can lead to soil ero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ps can only be grown during certain seas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not sustain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results in an inferior prod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57200"/>
            <a:ext cx="0" cy="556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295280"/>
            <a:ext cx="8534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"/>
              </a:rPr>
              <a:t>What happens to the prices when more cotton is produced than can be so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ces go down to make the product more affordable for the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"/>
              </a:rPr>
              <a:t>What is sharecropping and what impact did it have on African America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cropping is a system of farming in which a farmer works land for an owner who provides equipment and seeds and receives a share of the cr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had a positive impact on the African American because they found work and actually got paid for this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05:19Z</dcterms:created>
  <dc:creator>cfisd</dc:creator>
  <dc:description/>
  <dc:language>en-US</dc:language>
  <cp:lastModifiedBy>cfisd</cp:lastModifiedBy>
  <dcterms:modified xsi:type="dcterms:W3CDTF">2010-05-07T18:29:51Z</dcterms:modified>
  <cp:revision>8</cp:revision>
  <dc:subject/>
  <dc:title>Advantages and Disadvantages of an agricultural economy</dc:title>
</cp:coreProperties>
</file>