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3AD5-9BD5-4750-A27E-C253EA4F6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3D1D-B37A-461E-A461-94CA03FD2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FB34-0AB7-44E9-9FD9-8C463BAAD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89DC-60CF-4687-85BB-48C6C9C66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BC929-AE77-4070-AEE6-2A2095B88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E92EB-BF54-4612-B015-CDAE73CA6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133B0-31A9-434A-80E8-9F5F138E4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92C7E-3249-4037-B235-129EDCBF0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DAE35-CF07-4A63-9992-35A59DE4C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39971-82A0-4D2A-AF56-1315482D9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607BC-70D0-4954-82E4-B166B114B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21C7-B400-4D12-8057-32ECD504F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BEADD-104F-4543-94AC-86D904195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1D795-D8D6-4A15-BB93-EF0D35C58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7EB55-0E91-49F2-97FC-D0DECF244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57866-9F32-4E56-A0E7-EFF50AB61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E973F-3267-4626-8C3B-A47930D63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6057-DEF1-40F1-8A90-5D6B72DA9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D99B-56B3-4D01-8F20-3CE7A62B7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A492-FB61-4A78-9BAD-9A22976B0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0A96-8F79-4BC9-A26E-98C7A3DF0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5913-2D55-4082-8F44-22283626A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41D4-3F39-4E89-8322-BCE7CB5A6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7C1B-E9AF-4BC8-82DF-6B83CB69E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C784A-7C4F-4084-A701-160F827FF6A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06111-E9D3-4706-A70D-B83C9DABEF1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y: Cameron Wrigh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am Shaw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228600" y="1447920"/>
            <a:ext cx="89154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Advantages and Disadvantages of an Agricultural Economy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L 0.25 0.33295 L 0 0.33295 L 0 0 Z">
                                      <p:cBhvr>
                                        <p:cTn id="6" dur="2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L 0.25 0.33295 L 0 0.33295 L 0 0 Z">
                                      <p:cBhvr>
                                        <p:cTn id="10" dur="2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L 0.25 0.33295 L 0 0.33295 L 0 0 Z">
                                      <p:cBhvr>
                                        <p:cTn id="14" dur="20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entury"/>
              </a:rPr>
              <a:t>Advantages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4400" spc="-1" strike="noStrike">
                <a:solidFill>
                  <a:srgbClr val="ffffff"/>
                </a:solidFill>
                <a:latin typeface="Century"/>
              </a:rPr>
              <a:t>Disadvantages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de surplus for goo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rong social network based on primitive metho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griculture helped lead to the rise of human civilizati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wer food costs and greater food availability to the po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mits the natural habitat of some wild creatures and can lead to soil eros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ops can only be grown during certain season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erally not sustainab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ften results in an inferior produc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267080" y="457200"/>
            <a:ext cx="0" cy="5562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28600" y="1295280"/>
            <a:ext cx="8534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"/>
              </a:rPr>
              <a:t>What happens to the prices when more cotton is produced than can be sold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rices go down to make the product more affordable for the popul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"/>
              </a:rPr>
              <a:t>What is sharecropping and what impact did it have on African Americans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arecropping is a system of farming in which a farmer works land for an owner who provides equipment and seeds and receives a share of the cro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had a positive impact on the African American because they found work and actually got paid for this wor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6T18:05:19Z</dcterms:created>
  <dc:creator>cfisd</dc:creator>
  <dc:description/>
  <dc:language>en-US</dc:language>
  <cp:lastModifiedBy>cfisd</cp:lastModifiedBy>
  <dcterms:modified xsi:type="dcterms:W3CDTF">2010-05-07T18:29:51Z</dcterms:modified>
  <cp:revision>8</cp:revision>
  <dc:subject/>
  <dc:title>Advantages and Disadvantages of an agricultural economy</dc:title>
</cp:coreProperties>
</file>