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92F-6554-4766-BEE7-1FF785EC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A0D-97B9-4DCA-A1D6-AE0B1F46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18E-451A-43B8-897F-D739699C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0BF-CAEC-4ECD-93EE-B5188F52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8993-2543-4F82-96F6-18DE31D9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48FE-8E7F-4F38-BFF1-6EB048A0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03B6-A471-4BBA-8E81-A6F4AB9D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37B7-7C83-46A4-9BB7-5B78B0CD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63A6-5892-45AC-9ADC-D86BD4A5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E479-6099-4E1C-A69F-5160EF7E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25AB-971F-4ED1-AE89-58BD26D5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8A9-8D53-40F1-98AC-79229570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9BDF-1B0A-4391-9055-F749ED84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2C15-80CA-4F26-AD55-F5C86C1B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033C-9982-4194-8738-89A1BD14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7688-A315-488E-9108-99C2239B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195E-CC76-48BA-8F8F-AA10273D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5BE-B563-4785-A5C9-2DFC4534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B7F-5CF6-4268-BA84-F13444F4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856-9BFE-4D49-A97A-5F60321D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15B-D730-4A80-9572-55BF5E5D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1A7-DB87-40D2-A51D-26EB1545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C90-112A-4E9C-8C38-46CA4267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0BC-7B5A-481F-995D-08621225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46EF-BF81-47AE-A358-416CC8B69C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E6D8-5E6E-44DF-8B18-8AFB322632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: Cameron Wr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 Sh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600" y="1447920"/>
            <a:ext cx="8915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dvantages and Disadvantages of an Agricultural Econom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0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4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Advantag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Disadvantag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surplus for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social network based on primitive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iculture helped lead to the rise of human civil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food costs and greater food availability to the p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s the natural habitat of some wild creatures and can lead to soil ero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ps can only be grown during certain seas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not sustain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results in an inferior produ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57200"/>
            <a:ext cx="0" cy="556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295280"/>
            <a:ext cx="8534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"/>
              </a:rPr>
              <a:t>What happens to the prices when more cotton is produced than can be sol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ces go down to make the product more affordable for the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"/>
              </a:rPr>
              <a:t>What is sharecropping and what impact did it have on African America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cropping is a system of farming in which a farmer works land for an owner who provides equipment and seeds and receives a share of the cr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had a positive impact on the African American because they found work and actually got paid for this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05:19Z</dcterms:created>
  <dc:creator>cfisd</dc:creator>
  <dc:description/>
  <dc:language>en-US</dc:language>
  <cp:lastModifiedBy>cfisd</cp:lastModifiedBy>
  <dcterms:modified xsi:type="dcterms:W3CDTF">2010-05-07T18:29:51Z</dcterms:modified>
  <cp:revision>8</cp:revision>
  <dc:subject/>
  <dc:title>Advantages and Disadvantages of an agricultural economy</dc:title>
</cp:coreProperties>
</file>