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0F61-29CE-4E8F-B6AE-E24A17FE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623-994E-4434-B7D8-4CE8FE2D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BCB-84CB-45D0-99BB-AA760C3F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A985-578C-48CD-B781-C5E75411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9CB3-6477-4E4E-A3CC-5B6C21B2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E2FE-8C12-4D9C-95AF-1EE81B33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4261-297C-4B0F-9D13-3170E939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EA26-E7D1-4C70-84BA-4CC8EA54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67EA-345A-4881-BD6B-0B0243FB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FF56-78E7-416A-8FA1-AE051E27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3017-E2D7-4AD5-945C-632DE5A3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810-6C7E-4A45-918D-71C6024D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79E0-9BD8-4F6E-BB47-BBF5828E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AB0D-9AED-47EB-937B-36807828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72C3-D6BB-406C-8179-771803B7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2D23-57BF-4F95-AC3F-BE9AA271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A135-C105-4015-8CFF-D72D6187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4972-19BF-468F-921D-88148CDD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358D-5E19-4B71-AEBA-3CD2DD00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2A8-E69C-46FB-A2BA-F1D0E4D6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66F-FE77-47F1-AE0A-BD142F10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BFF-448C-4D7D-B1EB-FABEE67B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6F6-3E01-4BB6-B31C-F6605B4C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A139-7680-42BA-9353-5BCAC93E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9700-536E-4802-B505-FCACF6A410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3BE2-2E94-48F9-AF6E-3625A22DC0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: Cameron Wr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 Sha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600" y="1447920"/>
            <a:ext cx="8915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dvantages and Disadvantages of an Agricultural Econom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0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4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Advantag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Disadvantag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 surplus for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social network based on primitive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iculture helped lead to the rise of human civiliz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food costs and greater food availability to the p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s the natural habitat of some wild creatures and can lead to soil ero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ps can only be grown during certain seas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 not sustain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results in an inferior produ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457200"/>
            <a:ext cx="0" cy="556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295280"/>
            <a:ext cx="8534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"/>
              </a:rPr>
              <a:t>What happens to the prices when more cotton is produced than can be sol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ces go down to make the product more affordable for the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"/>
              </a:rPr>
              <a:t>What is sharecropping and what impact did it have on African America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cropping is a system of farming in which a farmer works land for an owner who provides equipment and seeds and receives a share of the cro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had a positive impact on the African American because they found work and actually got paid for this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05:19Z</dcterms:created>
  <dc:creator>cfisd</dc:creator>
  <dc:description/>
  <dc:language>en-US</dc:language>
  <cp:lastModifiedBy>cfisd</cp:lastModifiedBy>
  <dcterms:modified xsi:type="dcterms:W3CDTF">2010-05-07T18:29:51Z</dcterms:modified>
  <cp:revision>8</cp:revision>
  <dc:subject/>
  <dc:title>Advantages and Disadvantages of an agricultural economy</dc:title>
</cp:coreProperties>
</file>