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7E3-0B83-41AF-AAE1-CAC8A2B3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C0D-25DE-466C-A74D-5AD1FB6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1F6-B898-41D8-B2F1-C5A15152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C45-530D-4821-9ED5-12F0C84B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27A5-3995-4EEC-8B91-5E63D6DB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CA21-1F5C-4852-9849-1210822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33F9-7E86-4702-BBB5-BAAA1F7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DBD1-D7F1-4E5E-9BB6-7987B8ED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6918-50E6-4B09-B7C1-64EA717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3C64-9C9F-445C-A61D-8D8E855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7071-865B-42DB-B5BD-7D8487C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513-11D0-4127-BE63-9713E5A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D14-457D-46DC-B4D1-D416526D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97B-99CC-4903-9E09-E60B8DB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391D-C00B-4A62-9C9B-33963B4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7625-B1AE-41DA-AC0D-63E95A77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1323-A0B6-4C20-8B34-A775646F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381-01E0-4529-8309-27722564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04A-134F-438D-8042-C5C70704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9D3-F768-44DA-B5F3-C693FE1F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89F-332C-4931-B12A-80FBCF04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BD0-8A24-4F5B-A118-757580D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D8D-C084-4BAA-A617-0C58F24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B90-C625-4ABF-B07C-4FEE2C1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CB47-0501-461B-8BA6-221CBDBC9D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F5A-166E-41E8-B785-A6EF7D63AC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Cameron W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 Sh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447920"/>
            <a:ext cx="8915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antages and Disadvantages of an Agricultural Econo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Dis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surplus for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social network based on primitive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helped lead to the rise of human civ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ood costs and greater food availability to the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s the natural habitat of some wild creatures and can lead to soil ero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ps can only be grown during certain seas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not sustai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results in an inferior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5720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2952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happens to the prices when more cotton is produced than can be so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ces go down to make the product more affordable for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"/>
              </a:rPr>
              <a:t>What is sharecropping and what impact did it have on African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cropping is a system of farming in which a farmer works land for an owner who provides equipment and seeds and receives a share of the cr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had a positive impact on the African American because they found work and actually got paid for this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19Z</dcterms:created>
  <dc:creator>cfisd</dc:creator>
  <dc:description/>
  <dc:language>en-US</dc:language>
  <cp:lastModifiedBy>cfisd</cp:lastModifiedBy>
  <dcterms:modified xsi:type="dcterms:W3CDTF">2010-05-07T18:29:51Z</dcterms:modified>
  <cp:revision>8</cp:revision>
  <dc:subject/>
  <dc:title>Advantages and Disadvantages of an agricultural economy</dc:title>
</cp:coreProperties>
</file>