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2A2-7C0A-4511-9FEF-C30166F6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D68-D847-4B84-A4DD-71E1514D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7B5-F920-49AE-AC21-CC74FFFF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314-DC54-480D-9D5A-4252527A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8D92-B31C-4F62-A7C3-DCD8302F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CBE0-04C3-42C9-B8A7-1B49850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16E3-67E5-407A-B3B0-C211498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0C9-CDD8-45AC-A39F-79A7BF3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0400-02B3-4A1C-8D34-9A837C9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0DC-C62B-4E94-BA0F-297C21A7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E7B1-296A-46EC-B4A5-268593F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270-D257-4D7C-9931-1561DFA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08B-C769-4C9D-9D59-897DC8F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E1B6-CBF1-469A-8A08-754EE56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1CE9-CDB5-426A-A9E3-8F76451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4DC-D28D-49A0-AD44-EFAA3AD0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967F-DBEB-41B0-8BD0-7CCDC43C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14F-8619-48FB-8521-1EA59C9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00C-BA09-4EA2-BEA5-17EF97A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0AE-3ACC-4F13-AF69-0B4B9C6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7DA-D306-4103-8097-1AD3380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2F7-9FC9-4B86-BAC7-808A548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CD-4598-42D4-9C27-A598808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AE6-9D45-47EA-ABDE-09BECAC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330-88E9-4910-87B6-DBB4F92D2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BF72-560D-4C4E-8AAB-4A0068883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Cameron W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 Sh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447920"/>
            <a:ext cx="8915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antages and Disadvantages of an Agricultural Econo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Dis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surplus for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ocial network based on primitiv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helped lead to the rise of human civ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ood costs and greater food availability to the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s the natural habitat of some wild creatures and can lead to soil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ps can only be grown during certain seas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not sustai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results in an inferior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5720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happens to the prices when more cotton is produced than can be so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ces go down to make the product more affordable for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is sharecropping and what impact did it have on African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cropping is a system of farming in which a farmer works land for an owner who provides equipment and seeds and receives a share of the cr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had a positive impact on the African American because they found work and actually got paid for this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19Z</dcterms:created>
  <dc:creator>cfisd</dc:creator>
  <dc:description/>
  <dc:language>en-US</dc:language>
  <cp:lastModifiedBy>cfisd</cp:lastModifiedBy>
  <dcterms:modified xsi:type="dcterms:W3CDTF">2010-05-07T18:29:51Z</dcterms:modified>
  <cp:revision>8</cp:revision>
  <dc:subject/>
  <dc:title>Advantages and Disadvantages of an agricultural economy</dc:title>
</cp:coreProperties>
</file>